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A34-2716-4FE7-80EE-DDDAB1ED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D8F-134B-4AF9-97C4-F459122A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A59-6139-46B1-8DAA-0F8011ED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30D-EFCA-40CE-A97C-8D7F2342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9D6-65FF-4383-99BE-46E5AD06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6FB-41F2-493C-90AE-6D74BDCD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6CE-99C8-4BB1-BBE0-611264D1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AD1-A827-44FC-96A6-FD212DD7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FBC-102D-445B-B790-C8DBB55A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32D-46A5-486B-992B-40B70617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1D6-50F6-4BB6-B7EB-DA7B5940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A0E-EBE5-4102-AE1C-8E96AEFE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038-1738-4CDE-9451-943E44A23AD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ضاعفة الحرف الساكن الأخ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981080"/>
            <a:ext cx="2666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ضاعف الحرف الساكن الاخير اذ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مة بمقطع واحد وتنتهي بحرف علة + ساك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علة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981080"/>
            <a:ext cx="2438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كننا لا نضاعف اذا كان هنا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حرفين علة او ساك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لم تنتهي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 انتهت الكلمة 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تغيير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غي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لي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اذا انتهت الكلمة بساكن +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غير اذا انتهت الكلمة بعلة 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حذف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في اخر الكل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حذ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كانت لا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أ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 + l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حذفها اذ كانت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اضاف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981080"/>
            <a:ext cx="5410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ض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انتهت الكلمة ب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 – s – sh – x –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واحيانا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اءا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to – pho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904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u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es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for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777240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a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o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consi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c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72000"/>
            <a:ext cx="7772400" cy="190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ay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nj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ntro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rave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r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ope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pre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0:17Z</dcterms:created>
  <dc:creator>Bafayad</dc:creator>
  <dc:description/>
  <dc:language>en-US</dc:language>
  <cp:lastModifiedBy>معمل الانجليزي</cp:lastModifiedBy>
  <dcterms:modified xsi:type="dcterms:W3CDTF">2005-03-21T07:20:04Z</dcterms:modified>
  <cp:revision>11</cp:revision>
  <dc:subject/>
  <dc:title>عرض تقديمي من PowerPoint</dc:title>
</cp:coreProperties>
</file>